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3A6A-2F99-4FF1-AE17-94807FF1A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7D06-A061-479B-BAA0-3485D99F0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6983-7634-4A07-AA0E-FEBB42A0A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232-9602-4B9D-B121-33009AD8F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122-83DB-44DD-9EE4-8B47C7FC9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DAB0-8EDC-473D-8FF7-B70A8CB61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C469-6A40-4870-ACF4-B3DF70051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1E6-4CFB-4BC1-88BA-930523C2A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0429-2F04-4F83-AC74-0405758B4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F88-502C-441F-82D3-679257682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750-1EFB-4B93-8CE2-1615D6CAE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87E-AD92-4A1D-B3DF-D9C750BA4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F5BC-C871-4502-BEF1-681643B1D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A34B-9087-4475-82F8-D8B31C956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EB6-B7D7-4673-9EEC-BCEC407C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69E-8006-49FC-8165-5DEE9E95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C37-31C8-49DC-A9FA-8D3B92B4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B72-3DD7-4464-8EC9-FCDD964D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F2A-F8AE-42D9-88DD-348CBD5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673-0471-4E40-B3C6-4F9665A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BE0-D67E-4012-8663-FDFD5C54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BB0-A4B2-4FBD-B039-5F212866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566-9177-47CB-9FC2-2752A7C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E28-32DA-45A5-BC9B-F9ABDAF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1CE-ECF5-4924-B3EC-6ECC726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DF4-20B7-4B81-A0A8-905538B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A205-8184-4A16-BC69-E7302A42CC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F3B7-0BB9-4B22-9768-181780E7F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CBDE-FF64-4403-9F7B-6A4F57B03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DA54-5826-4396-9D94-A8AD71709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8480" y="2017080"/>
              <a:ext cx="1859400" cy="3582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7880" y="2008800"/>
              <a:ext cx="3049560" cy="3582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080"/>
              <a:ext cx="3195000" cy="3582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5120" y="2082600"/>
              <a:ext cx="1786320" cy="4482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7400" y="2080080"/>
              <a:ext cx="1815120" cy="45108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6640" y="2080080"/>
              <a:ext cx="1575000" cy="414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200" y="4563720"/>
                <a:ext cx="758160" cy="47124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480" y="3663720"/>
                <a:ext cx="970200" cy="40824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50400"/>
              <a:ext cx="1469520" cy="194256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2560" y="4619160"/>
                <a:ext cx="757800" cy="47124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2840" y="3653280"/>
                <a:ext cx="96984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4720"/>
                <a:ext cx="974160" cy="194256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5880" y="4615560"/>
                <a:ext cx="757800" cy="47124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160" y="3650400"/>
                <a:ext cx="969840" cy="40824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7320" y="4623840"/>
              <a:ext cx="115740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720" y="5657760"/>
              <a:ext cx="1433880" cy="6818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50040"/>
              <a:ext cx="183744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4160" y="4619160"/>
              <a:ext cx="149148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040" y="5658120"/>
              <a:ext cx="1696680" cy="7902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8480" y="2017080"/>
              <a:ext cx="7950600" cy="358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600" y="5658120"/>
              <a:ext cx="977760" cy="4708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480"/>
              <a:ext cx="97776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20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291F-AD8A-4014-9AD3-B95125B71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bory a převodní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A2F-0292-417A-87FE-11F7523B4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, užitečné zejména v kombinaci s předchozím bo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41D-A064-4D79-9882-4A5A2D217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předpokládané zprovoznění 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D07E-BE72-4981-A2FD-A46D9CF20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112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áběh M17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672320" cy="354168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593640" y="5519880"/>
            <a:ext cx="59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19A0-E532-4F4B-A226-6D8E239C7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44560" y="1773360"/>
            <a:ext cx="71676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FE36-5D39-4737-A6AF-7808927EB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6761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EDFB-369B-4575-92A9-BE517B8FE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249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oba modulů M3, M4 a M5 má být schválen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+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ompletní hodnocen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6200" y="2535120"/>
              <a:ext cx="280728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11960" y="3149640"/>
              <a:ext cx="38196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3960" y="307476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396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60020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200"/>
              <a:ext cx="281736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36840" y="3657240"/>
              <a:ext cx="8845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57240"/>
              <a:ext cx="164124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202760" y="33544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91720" y="3354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4040" y="33541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6200" y="3273120"/>
              <a:ext cx="0" cy="33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82640" y="3442320"/>
              <a:ext cx="251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290320" y="2976120"/>
              <a:ext cx="1207080" cy="2018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7312-F902-4487-8415-99C1A1C55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106884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ždoroční hodnocení H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9720" y="2939040"/>
              <a:ext cx="295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7200" y="3192480"/>
              <a:ext cx="39132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50960" y="311760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7640" y="319356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9840" y="319392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933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80240" y="3700080"/>
              <a:ext cx="90648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200" y="3700080"/>
              <a:ext cx="1688040" cy="5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126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6040" y="339696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92400" y="339588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8240" y="331524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82120" y="3484080"/>
              <a:ext cx="257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34240" y="2899080"/>
              <a:ext cx="1807200" cy="2091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8E5-74CD-469F-8C2D-2E797440C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nezměněné parame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AB87-1102-4286-B44D-6EED74115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669C-9BCE-43A1-8D8F-ACA240ECA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72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vždy další cyklus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uziv</cp:lastModifiedBy>
  <cp:lastPrinted>2018-11-19T13:34:56Z</cp:lastPrinted>
  <dcterms:modified xsi:type="dcterms:W3CDTF">2018-11-20T11:31:15Z</dcterms:modified>
  <cp:revision>141</cp:revision>
  <dc:subject/>
  <dc:title>Prezentace aplikace PowerPoint</dc:title>
</cp:coreProperties>
</file>